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728A-7B69-4540-A993-90296E70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3F98-5F20-496A-8B0A-444D2C2A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3CE2-49E0-4839-977C-8C487FB3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696F-DD79-4904-ADA8-A59C77EE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84EE-7A8C-4EBF-8636-81A47AF5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6751-BDD3-4C9F-8BE5-2B6A4E22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EDC3-15F7-48C6-9CF8-4B6D10B8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A31B-C1DD-47C6-A774-7808ED2A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041B-BBB4-4A1F-8AE2-7ADDF4B4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1596-4A75-4724-9D24-9F87BCE5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3CBA-3D97-4731-8AF8-86548BD8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ADC5-12E7-4B26-82B9-96D9FE58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988E-A7E5-4C53-B59B-046B2B5435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676520"/>
            <a:ext cx="699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ter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Versu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ffect Modific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9213" r="32565" b="26098"/>
          <a:stretch/>
        </p:blipFill>
        <p:spPr>
          <a:xfrm>
            <a:off x="1066680" y="1143000"/>
            <a:ext cx="693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2476" t="9576" r="24098" b="7610"/>
          <a:stretch/>
        </p:blipFill>
        <p:spPr>
          <a:xfrm>
            <a:off x="1295280" y="1066680"/>
            <a:ext cx="6782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2438" t="9813" r="25931" b="7610"/>
          <a:stretch/>
        </p:blipFill>
        <p:spPr>
          <a:xfrm>
            <a:off x="1295280" y="990720"/>
            <a:ext cx="6705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762120" y="76212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381" t="1540" r="50510" b="35311"/>
          <a:stretch/>
        </p:blipFill>
        <p:spPr>
          <a:xfrm>
            <a:off x="2362320" y="1066680"/>
            <a:ext cx="5029200" cy="3276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26744" t="78558" r="24419" b="7585"/>
          <a:stretch/>
        </p:blipFill>
        <p:spPr>
          <a:xfrm>
            <a:off x="2362320" y="4343400"/>
            <a:ext cx="50292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48195" b="23382"/>
          <a:stretch/>
        </p:blipFill>
        <p:spPr>
          <a:xfrm>
            <a:off x="1981080" y="1409760"/>
            <a:ext cx="5715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21517"/>
          <a:stretch/>
        </p:blipFill>
        <p:spPr>
          <a:xfrm>
            <a:off x="1143000" y="914400"/>
            <a:ext cx="6858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838080"/>
            <a:ext cx="70106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371600" y="1066680"/>
            <a:ext cx="6172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285"/>
          <a:stretch/>
        </p:blipFill>
        <p:spPr>
          <a:xfrm>
            <a:off x="1447920" y="990720"/>
            <a:ext cx="6324480" cy="4427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0" t="84454" r="0" b="7610"/>
          <a:stretch/>
        </p:blipFill>
        <p:spPr>
          <a:xfrm>
            <a:off x="1447920" y="5410080"/>
            <a:ext cx="6324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2183" t="9350" r="55301" b="57942"/>
          <a:stretch/>
        </p:blipFill>
        <p:spPr>
          <a:xfrm>
            <a:off x="1752480" y="1828800"/>
            <a:ext cx="5943600" cy="3352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25808" t="1552" r="23531" b="89886"/>
          <a:stretch/>
        </p:blipFill>
        <p:spPr>
          <a:xfrm>
            <a:off x="2743200" y="609480"/>
            <a:ext cx="403848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57440" y="7779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3175" t="9288" r="46088" b="59494"/>
          <a:stretch/>
        </p:blipFill>
        <p:spPr>
          <a:xfrm>
            <a:off x="1905120" y="1371600"/>
            <a:ext cx="5715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30T19:02:37Z</dcterms:modified>
  <cp:revision>218</cp:revision>
  <dc:subject/>
  <dc:title>Slide 1</dc:title>
</cp:coreProperties>
</file>